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png" ContentType="image/png"/>
  <Override PartName="/ppt/media/image2.gif" ContentType="image/gif"/>
  <Override PartName="/ppt/media/image4.png" ContentType="image/png"/>
  <Override PartName="/ppt/media/image6.gif" ContentType="image/gif"/>
  <Override PartName="/ppt/media/image15.wmf" ContentType="image/x-wmf"/>
  <Override PartName="/ppt/media/image1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8.gif" ContentType="image/gif"/>
  <Override PartName="/ppt/media/explode.wav" ContentType="audio/x-wav"/>
  <Override PartName="/ppt/media/image10.gif" ContentType="image/gif"/>
  <Override PartName="/ppt/media/image29.wmf" ContentType="image/x-wmf"/>
  <Override PartName="/ppt/media/image31.wmf" ContentType="image/x-wmf"/>
  <Override PartName="/ppt/media/image11.png" ContentType="image/png"/>
  <Override PartName="/ppt/media/image30.wmf" ContentType="image/x-wmf"/>
  <Override PartName="/ppt/media/image9.gif" ContentType="image/gif"/>
  <Override PartName="/ppt/media/image5.wmf" ContentType="image/x-wmf"/>
  <Override PartName="/ppt/media/image28.wmf" ContentType="image/x-wmf"/>
  <Override PartName="/ppt/media/image3.jpeg" ContentType="image/jpeg"/>
  <Override PartName="/ppt/media/image13.gif" ContentType="image/gif"/>
  <Override PartName="/ppt/media/image14.png" ContentType="image/png"/>
  <Override PartName="/ppt/media/image16.wmf" ContentType="image/x-wmf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F82B-34A6-40EB-9FCA-5CEFDA80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7A96-8A4A-454E-BC60-E7AFA2B7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3A3-23DE-4096-8BF5-1BA7B833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09B-42D9-49D8-9D6C-1B3404B9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88C-BB9B-4447-BD2A-37511902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D02-EEA4-48E2-AC96-6C10BC71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0BD-7C2F-4806-991C-702AFA78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E6EE-ECA6-48D2-BA56-E802A204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C898-1AC1-4B5F-819C-ED86955D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F4BA-EE7F-4CB1-BCAA-BB5429C2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8AF9-D8A7-4FF0-AFAC-2039DCCD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875-99DB-40E6-9ABB-F2FAD3B1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EB54-41F4-4D9A-838D-60834DAEFC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46320" y="2290680"/>
            <a:ext cx="461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1.2.3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相反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66680" y="3247920"/>
            <a:ext cx="736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只有符号不同的两个数叫做互为相反数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879640" y="1414440"/>
            <a:ext cx="3838680" cy="782640"/>
            <a:chOff x="2879640" y="1414440"/>
            <a:chExt cx="3838680" cy="78264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5718240" y="141444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879640" y="1527480"/>
              <a:ext cx="266256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54120" y="1432080"/>
            <a:ext cx="64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举几个互为相反数的例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65240" y="2935440"/>
            <a:ext cx="516744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6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和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.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和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.6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和－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06800" y="3205080"/>
            <a:ext cx="457200" cy="1722600"/>
          </a:xfrm>
          <a:prstGeom prst="rect">
            <a:avLst/>
          </a:prstGeom>
          <a:noFill/>
          <a:ln w="255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64320" y="2627280"/>
            <a:ext cx="2236680" cy="2300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564000" y="5538960"/>
            <a:ext cx="3930480" cy="609480"/>
          </a:xfrm>
          <a:solidFill>
            <a:srgbClr val="cc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符号不同，数字相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17520" y="2209680"/>
            <a:ext cx="69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数轴上表示相反数的两个点和原点有什么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435400" y="593640"/>
            <a:ext cx="3519360" cy="1185840"/>
            <a:chOff x="2435400" y="593640"/>
            <a:chExt cx="3519360" cy="118584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002200" y="593640"/>
              <a:ext cx="95256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Cloud"/>
            <p:cNvSpPr/>
            <p:nvPr/>
          </p:nvSpPr>
          <p:spPr>
            <a:xfrm>
              <a:off x="2435400" y="593640"/>
              <a:ext cx="256680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2955960" y="745920"/>
              <a:ext cx="15238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727280" y="3865680"/>
            <a:ext cx="6827760" cy="1879560"/>
          </a:xfrm>
          <a:prstGeom prst="borderCallout1">
            <a:avLst>
              <a:gd name="adj1" fmla="val 18750"/>
              <a:gd name="adj2" fmla="val -8333"/>
              <a:gd name="adj3" fmla="val 89189"/>
              <a:gd name="adj4" fmla="val -13162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数轴上表示互为相反数的两个数的点，分别位于原点的两旁，且与原点的距离相等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54291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345360" y="2751120"/>
            <a:ext cx="2090520" cy="1521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55480" y="1490760"/>
            <a:ext cx="8118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的相反数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的相反数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，所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041480" y="4541760"/>
            <a:ext cx="7173720" cy="1378080"/>
            <a:chOff x="1041480" y="4541760"/>
            <a:chExt cx="7173720" cy="1378080"/>
          </a:xfrm>
        </p:grpSpPr>
        <p:sp>
          <p:nvSpPr>
            <p:cNvPr id="178" name=""/>
            <p:cNvSpPr/>
            <p:nvPr/>
          </p:nvSpPr>
          <p:spPr>
            <a:xfrm>
              <a:off x="1041480" y="4584600"/>
              <a:ext cx="6959520" cy="1335240"/>
            </a:xfrm>
            <a:prstGeom prst="wedgeRoundRectCallout">
              <a:avLst>
                <a:gd name="adj1" fmla="val 36907"/>
                <a:gd name="adj2" fmla="val -99347"/>
                <a:gd name="adj3" fmla="val 16667"/>
              </a:avLst>
            </a:prstGeom>
            <a:solidFill>
              <a:srgbClr val="ffcc99"/>
            </a:solidFill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41480" y="4541760"/>
              <a:ext cx="71737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求一个数的相反数就是在这个数的前面添上“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－</a:t>
              </a: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”号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3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62160" y="2131920"/>
            <a:ext cx="698004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地，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相反数是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相反数是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7800" y="2108160"/>
            <a:ext cx="68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08280" y="28893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76320" y="5326200"/>
            <a:ext cx="490716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和－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互为相反数 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889360" y="500040"/>
            <a:ext cx="2770200" cy="947520"/>
            <a:chOff x="2889360" y="500040"/>
            <a:chExt cx="2770200" cy="947520"/>
          </a:xfrm>
        </p:grpSpPr>
        <p:sp>
          <p:nvSpPr>
            <p:cNvPr id="185" name=""/>
            <p:cNvSpPr txBox="1"/>
            <p:nvPr/>
          </p:nvSpPr>
          <p:spPr>
            <a:xfrm>
              <a:off x="2889360" y="72396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4753080" y="50004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/>
          <p:nvPr/>
        </p:nvSpPr>
        <p:spPr>
          <a:xfrm rot="5400000">
            <a:off x="3373560" y="3867840"/>
            <a:ext cx="1184400" cy="1081080"/>
          </a:xfrm>
          <a:custGeom>
            <a:avLst/>
            <a:gdLst>
              <a:gd name="textAreaLeft" fmla="*/ 185040 w 1184400"/>
              <a:gd name="textAreaRight" fmla="*/ 1036440 w 1184400"/>
              <a:gd name="textAreaTop" fmla="*/ 270360 h 1081080"/>
              <a:gd name="textAreaBottom" fmla="*/ 811080 h 1081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116840" y="115920"/>
            <a:ext cx="2027160" cy="2016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98720" y="930240"/>
            <a:ext cx="737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一个数前面加上“－”号表示求这个数的相反数，如果在这些数前面加上“＋”号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4206960"/>
            <a:ext cx="71629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结论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一个数前面加上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仍表示这个数，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号可省略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2738520"/>
            <a:ext cx="27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11680" y="2738520"/>
            <a:ext cx="36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（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098720" y="4245120"/>
            <a:ext cx="687240" cy="5997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87440" y="2117880"/>
            <a:ext cx="646416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相反数是多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从数轴上考虑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124080" y="406440"/>
            <a:ext cx="3519360" cy="1185840"/>
            <a:chOff x="3124080" y="406440"/>
            <a:chExt cx="3519360" cy="118584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5690880" y="406440"/>
              <a:ext cx="95256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Cloud"/>
            <p:cNvSpPr/>
            <p:nvPr/>
          </p:nvSpPr>
          <p:spPr>
            <a:xfrm>
              <a:off x="3124080" y="406440"/>
              <a:ext cx="256680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3644640" y="558720"/>
              <a:ext cx="15238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492960" y="3616200"/>
            <a:ext cx="1463760" cy="2395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955800" y="4952880"/>
            <a:ext cx="4572000" cy="1059120"/>
          </a:xfrm>
          <a:prstGeom prst="wedgeRoundRectCallout">
            <a:avLst>
              <a:gd name="adj1" fmla="val 76597"/>
              <a:gd name="adj2" fmla="val -122712"/>
              <a:gd name="adj3" fmla="val 1666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相反数是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9672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84360" y="2584440"/>
            <a:ext cx="8024760" cy="2920680"/>
            <a:chOff x="684360" y="2584440"/>
            <a:chExt cx="8024760" cy="2920680"/>
          </a:xfrm>
        </p:grpSpPr>
        <p:sp>
          <p:nvSpPr>
            <p:cNvPr id="204" name=""/>
            <p:cNvSpPr/>
            <p:nvPr/>
          </p:nvSpPr>
          <p:spPr>
            <a:xfrm>
              <a:off x="684360" y="2584440"/>
              <a:ext cx="8024760" cy="29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相反数；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相反数；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  与  互为相反数；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（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反数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2100240" y="4005360"/>
              <a:ext cx="290520" cy="94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2971800" y="3948120"/>
              <a:ext cx="312840" cy="100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1568520" y="689040"/>
            <a:ext cx="2620440" cy="852480"/>
            <a:chOff x="1568520" y="689040"/>
            <a:chExt cx="2620440" cy="852480"/>
          </a:xfrm>
        </p:grpSpPr>
        <p:sp>
          <p:nvSpPr>
            <p:cNvPr id="208" name=""/>
            <p:cNvSpPr/>
            <p:nvPr/>
          </p:nvSpPr>
          <p:spPr>
            <a:xfrm>
              <a:off x="2036520" y="74772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3"/>
            <a:stretch/>
          </p:blipFill>
          <p:spPr>
            <a:xfrm>
              <a:off x="1568520" y="68904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"/>
          <p:cNvSpPr/>
          <p:nvPr/>
        </p:nvSpPr>
        <p:spPr>
          <a:xfrm>
            <a:off x="974880" y="1706400"/>
            <a:ext cx="64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．判断下列说法是否正确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5568840" y="4216320"/>
            <a:ext cx="663840" cy="663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5160960" y="2639880"/>
            <a:ext cx="839880" cy="839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5089680" y="3376440"/>
            <a:ext cx="839520" cy="839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6014880" y="4708440"/>
            <a:ext cx="808200" cy="808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6630840" y="1068480"/>
            <a:ext cx="2078280" cy="24112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129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385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00080" y="1015920"/>
            <a:ext cx="751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分别说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相反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01520" y="2978280"/>
            <a:ext cx="2287800" cy="2822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117960" y="2276640"/>
            <a:ext cx="4557600" cy="3408120"/>
          </a:xfrm>
          <a:solidFill>
            <a:srgbClr val="ccffff"/>
          </a:solidFill>
          <a:ln w="25560">
            <a:solidFill>
              <a:srgbClr val="3366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相反数是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相反数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相反数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相反数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相反数是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92120" y="2882520"/>
            <a:ext cx="6858000" cy="2067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个正数的相反数是一个负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个负数的相反数是一个正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相反数是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0.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392640" y="987480"/>
            <a:ext cx="2770200" cy="947520"/>
            <a:chOff x="3392640" y="987480"/>
            <a:chExt cx="2770200" cy="947520"/>
          </a:xfrm>
        </p:grpSpPr>
        <p:sp>
          <p:nvSpPr>
            <p:cNvPr id="224" name=""/>
            <p:cNvSpPr txBox="1"/>
            <p:nvPr/>
          </p:nvSpPr>
          <p:spPr>
            <a:xfrm>
              <a:off x="3392640" y="121140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5256360" y="98748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d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64160" y="533520"/>
            <a:ext cx="3489120" cy="5897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88040" y="4875120"/>
            <a:ext cx="351000" cy="4269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434600" y="363600"/>
            <a:ext cx="2849400" cy="1709640"/>
            <a:chOff x="1434600" y="363600"/>
            <a:chExt cx="2849400" cy="1709640"/>
          </a:xfrm>
        </p:grpSpPr>
        <p:sp>
          <p:nvSpPr>
            <p:cNvPr id="45" name="filecab3"/>
            <p:cNvSpPr/>
            <p:nvPr/>
          </p:nvSpPr>
          <p:spPr>
            <a:xfrm rot="10800000">
              <a:off x="1434600" y="12348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新课导入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2052360" y="36360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1206360" y="3506760"/>
            <a:ext cx="3457800" cy="1165320"/>
          </a:xfrm>
          <a:prstGeom prst="wedgeRoundRectCallout">
            <a:avLst>
              <a:gd name="adj1" fmla="val 89393"/>
              <a:gd name="adj2" fmla="val 93189"/>
              <a:gd name="adj3" fmla="val 16667"/>
            </a:avLst>
          </a:prstGeom>
          <a:solidFill>
            <a:srgbClr val="00ffff">
              <a:alpha val="62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注意过化肥包装袋上的数字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073160" y="2708280"/>
            <a:ext cx="664200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)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55680" y="1589040"/>
            <a:ext cx="54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简化下列各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357200" y="520560"/>
            <a:ext cx="2621160" cy="852480"/>
            <a:chOff x="1357200" y="520560"/>
            <a:chExt cx="2621160" cy="852480"/>
          </a:xfrm>
        </p:grpSpPr>
        <p:sp>
          <p:nvSpPr>
            <p:cNvPr id="229" name=""/>
            <p:cNvSpPr/>
            <p:nvPr/>
          </p:nvSpPr>
          <p:spPr>
            <a:xfrm>
              <a:off x="1825560" y="579240"/>
              <a:ext cx="215280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1357200" y="520560"/>
              <a:ext cx="776520" cy="7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4647600" y="2784600"/>
            <a:ext cx="7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93720" y="3451320"/>
            <a:ext cx="7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97560" y="40543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26000" y="4743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6215040" y="1050840"/>
            <a:ext cx="1647720" cy="3467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1160640" y="3166920"/>
            <a:ext cx="7040520" cy="1820880"/>
            <a:chOff x="1160640" y="3166920"/>
            <a:chExt cx="7040520" cy="1820880"/>
          </a:xfrm>
        </p:grpSpPr>
        <p:sp>
          <p:nvSpPr>
            <p:cNvPr id="237" name=""/>
            <p:cNvSpPr/>
            <p:nvPr/>
          </p:nvSpPr>
          <p:spPr>
            <a:xfrm>
              <a:off x="1160640" y="3166920"/>
              <a:ext cx="7040520" cy="182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1834" y="1356"/>
                  </a:moveTo>
                  <a:lnTo>
                    <a:pt x="21897" y="1356"/>
                  </a:lnTo>
                  <a:lnTo>
                    <a:pt x="21897" y="-10169"/>
                  </a:lnTo>
                  <a:lnTo>
                    <a:pt x="18697" y="-21751"/>
                  </a:lnTo>
                </a:path>
                <a:path w="21600" h="21600">
                  <a:moveTo>
                    <a:pt x="21834" y="0"/>
                  </a:moveTo>
                  <a:lnTo>
                    <a:pt x="21834" y="21600"/>
                  </a:lnTo>
                </a:path>
              </a:pathLst>
            </a:custGeom>
            <a:solidFill>
              <a:srgbClr val="ffffff"/>
            </a:solidFill>
            <a:ln w="25560">
              <a:solidFill>
                <a:srgbClr val="99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44520" y="3371760"/>
              <a:ext cx="67975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</a:rPr>
                <a:t>       </a:t>
              </a:r>
              <a:r>
                <a:rPr b="1" i="1" lang="zh-CN" sz="28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1" i="1" lang="zh-CN" sz="3600" spc="-1" strike="noStrike">
                  <a:solidFill>
                    <a:srgbClr val="003399"/>
                  </a:solidFill>
                  <a:latin typeface="Times New Roman"/>
                  <a:ea typeface="黑体"/>
                </a:rPr>
                <a:t>a</a:t>
              </a:r>
              <a:r>
                <a:rPr b="0" lang="zh-CN" sz="3600" spc="-1" strike="noStrike">
                  <a:solidFill>
                    <a:srgbClr val="003399"/>
                  </a:solidFill>
                  <a:latin typeface="Times New Roman"/>
                  <a:ea typeface="黑体"/>
                </a:rPr>
                <a:t>的相反数</a:t>
              </a: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－</a:t>
              </a:r>
              <a:r>
                <a:rPr b="0" i="1" lang="zh-CN" sz="3600" spc="-1" strike="noStrike">
                  <a:solidFill>
                    <a:srgbClr val="003399"/>
                  </a:solidFill>
                  <a:latin typeface="Times New Roman"/>
                  <a:ea typeface="黑体"/>
                </a:rPr>
                <a:t>a</a:t>
              </a:r>
              <a:r>
                <a:rPr b="0" lang="zh-CN" sz="3600" spc="-1" strike="noStrike">
                  <a:solidFill>
                    <a:srgbClr val="003399"/>
                  </a:solidFill>
                  <a:latin typeface="Times New Roman"/>
                  <a:ea typeface="黑体"/>
                </a:rPr>
                <a:t>前有负号，那么</a:t>
              </a: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－</a:t>
              </a:r>
              <a:r>
                <a:rPr b="0" i="1" lang="zh-CN" sz="3600" spc="-1" strike="noStrike">
                  <a:solidFill>
                    <a:srgbClr val="003399"/>
                  </a:solidFill>
                  <a:latin typeface="Times New Roman"/>
                  <a:ea typeface="黑体"/>
                </a:rPr>
                <a:t>a</a:t>
              </a:r>
              <a:r>
                <a:rPr b="0" lang="zh-CN" sz="3600" spc="-1" strike="noStrike">
                  <a:solidFill>
                    <a:srgbClr val="003399"/>
                  </a:solidFill>
                  <a:latin typeface="Times New Roman"/>
                  <a:ea typeface="黑体"/>
                </a:rPr>
                <a:t>一定是负数吗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766880" y="1171440"/>
            <a:ext cx="3519360" cy="1185840"/>
            <a:chOff x="1766880" y="1171440"/>
            <a:chExt cx="3519360" cy="118584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4333680" y="1171440"/>
              <a:ext cx="95256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Cloud"/>
            <p:cNvSpPr/>
            <p:nvPr/>
          </p:nvSpPr>
          <p:spPr>
            <a:xfrm>
              <a:off x="1766880" y="1171440"/>
              <a:ext cx="256680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2287440" y="1323720"/>
              <a:ext cx="15238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43600" y="520560"/>
            <a:ext cx="1467000" cy="21830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26920" y="2368440"/>
            <a:ext cx="802800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相反数成对出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只有符号不同的两个数才互为相反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数轴上表示相反数的两个对应点，分别位于原点两侧，它们到原点距离相等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219120" y="363600"/>
            <a:ext cx="2849400" cy="1709640"/>
            <a:chOff x="3219120" y="363600"/>
            <a:chExt cx="2849400" cy="1709640"/>
          </a:xfrm>
        </p:grpSpPr>
        <p:sp>
          <p:nvSpPr>
            <p:cNvPr id="246" name="filecab3"/>
            <p:cNvSpPr/>
            <p:nvPr/>
          </p:nvSpPr>
          <p:spPr>
            <a:xfrm rot="10800000">
              <a:off x="3219120" y="12348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课堂小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3836880" y="36360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838920" y="868320"/>
            <a:ext cx="1290600" cy="1936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3344400" y="-225360"/>
            <a:ext cx="2849400" cy="1709640"/>
            <a:chOff x="3344400" y="-225360"/>
            <a:chExt cx="2849400" cy="1709640"/>
          </a:xfrm>
        </p:grpSpPr>
        <p:sp>
          <p:nvSpPr>
            <p:cNvPr id="250" name="filecab3"/>
            <p:cNvSpPr/>
            <p:nvPr/>
          </p:nvSpPr>
          <p:spPr>
            <a:xfrm rot="10800000">
              <a:off x="3344400" y="64584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随堂练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3962160" y="-22536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" name=""/>
          <p:cNvGrpSpPr/>
          <p:nvPr/>
        </p:nvGrpSpPr>
        <p:grpSpPr>
          <a:xfrm>
            <a:off x="322200" y="2152800"/>
            <a:ext cx="7897680" cy="3506040"/>
            <a:chOff x="322200" y="2152800"/>
            <a:chExt cx="7897680" cy="3506040"/>
          </a:xfrm>
        </p:grpSpPr>
        <p:sp>
          <p:nvSpPr>
            <p:cNvPr id="253" name=""/>
            <p:cNvSpPr/>
            <p:nvPr/>
          </p:nvSpPr>
          <p:spPr>
            <a:xfrm>
              <a:off x="322200" y="2152800"/>
              <a:ext cx="789768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． 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（＋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是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相反数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           是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相反数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8.9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是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相反数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是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相反数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2359080" y="2992680"/>
              <a:ext cx="102852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/>
          <p:cNvSpPr/>
          <p:nvPr/>
        </p:nvSpPr>
        <p:spPr>
          <a:xfrm>
            <a:off x="4724280" y="2152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4229280" y="2755800"/>
            <a:ext cx="266400" cy="876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661280" y="4067280"/>
            <a:ext cx="9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8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68360" y="5105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7300800" y="646200"/>
            <a:ext cx="1671840" cy="135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66760" y="1428840"/>
            <a:ext cx="70056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填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是正数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+(a+b)]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是负数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81160" y="312588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03280" y="4908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032520" y="628560"/>
            <a:ext cx="2425680" cy="1598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6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609480" y="1336680"/>
            <a:ext cx="8077320" cy="3934440"/>
            <a:chOff x="609480" y="1336680"/>
            <a:chExt cx="8077320" cy="3934440"/>
          </a:xfrm>
        </p:grpSpPr>
        <p:sp>
          <p:nvSpPr>
            <p:cNvPr id="266" name=""/>
            <p:cNvSpPr/>
            <p:nvPr/>
          </p:nvSpPr>
          <p:spPr>
            <a:xfrm>
              <a:off x="609480" y="1336680"/>
              <a:ext cx="807732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．填空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0" i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－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３的相反数是</a:t>
              </a:r>
              <a:r>
                <a:rPr b="0" lang="zh-CN" sz="36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      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－</a:t>
              </a:r>
              <a:r>
                <a:rPr b="0" i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相反数是</a:t>
              </a:r>
              <a:r>
                <a:rPr b="0" lang="zh-CN" sz="36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       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；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   是</a:t>
              </a:r>
              <a:r>
                <a:rPr b="0" lang="zh-CN" sz="36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     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相反数；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如果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－</a:t>
              </a:r>
              <a:r>
                <a:rPr b="0" i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－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,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那么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－</a:t>
              </a:r>
              <a:r>
                <a:rPr b="0" i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相反数是</a:t>
              </a:r>
              <a:r>
                <a:rPr b="0" lang="zh-CN" sz="36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    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2030400" y="3359160"/>
              <a:ext cx="646200" cy="93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"/>
          <p:cNvSpPr/>
          <p:nvPr/>
        </p:nvSpPr>
        <p:spPr>
          <a:xfrm>
            <a:off x="5692680" y="1889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３－</a:t>
            </a:r>
            <a:r>
              <a:rPr b="0" i="1" lang="zh-CN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37040" y="2467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80960" y="5181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186000" y="3343320"/>
            <a:ext cx="889200" cy="863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5740560" y="522360"/>
            <a:ext cx="2493720" cy="1152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12960" y="351000"/>
            <a:ext cx="3898800" cy="6178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71840" y="2103480"/>
            <a:ext cx="6069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化肥包装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70240" y="4884840"/>
            <a:ext cx="439920" cy="4269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84160" y="1746360"/>
            <a:ext cx="746784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知识与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掌握相反数的概念，进一步理解数轴上的点与数的对应关系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过程与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通过归纳相反数在数轴上所表示的点的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征，培养归纳能力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情感态度与价值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体验数形结合的思想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220560" y="36360"/>
            <a:ext cx="2849400" cy="1709640"/>
            <a:chOff x="3220560" y="36360"/>
            <a:chExt cx="2849400" cy="1709640"/>
          </a:xfrm>
        </p:grpSpPr>
        <p:sp>
          <p:nvSpPr>
            <p:cNvPr id="53" name="filecab3"/>
            <p:cNvSpPr/>
            <p:nvPr/>
          </p:nvSpPr>
          <p:spPr>
            <a:xfrm rot="10800000">
              <a:off x="3220560" y="90756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3838320" y="3636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60948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5560" y="2227320"/>
            <a:ext cx="7473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重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反数的概念．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难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归纳相反数在数轴上表示的点的特征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395160" y="68400"/>
            <a:ext cx="3551400" cy="1691280"/>
            <a:chOff x="3395160" y="68400"/>
            <a:chExt cx="3551400" cy="1691280"/>
          </a:xfrm>
        </p:grpSpPr>
        <p:sp>
          <p:nvSpPr>
            <p:cNvPr id="58" name="filecab3"/>
            <p:cNvSpPr/>
            <p:nvPr/>
          </p:nvSpPr>
          <p:spPr>
            <a:xfrm rot="10800000">
              <a:off x="3395160" y="921600"/>
              <a:ext cx="3551400" cy="83772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重难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4384800" y="6840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34040" y="261612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542880" y="3887640"/>
            <a:ext cx="8153280" cy="720000"/>
            <a:chOff x="542880" y="3887640"/>
            <a:chExt cx="8153280" cy="720000"/>
          </a:xfrm>
        </p:grpSpPr>
        <p:sp>
          <p:nvSpPr>
            <p:cNvPr id="62" name=""/>
            <p:cNvSpPr/>
            <p:nvPr/>
          </p:nvSpPr>
          <p:spPr>
            <a:xfrm>
              <a:off x="542880" y="4043160"/>
              <a:ext cx="7924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67560" y="404316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05400" y="3887640"/>
              <a:ext cx="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89760" y="40262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02360" y="40262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66960" y="3887640"/>
              <a:ext cx="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2640" y="3887640"/>
              <a:ext cx="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90800" y="3887640"/>
              <a:ext cx="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248600" y="3887640"/>
              <a:ext cx="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34200" y="3887640"/>
              <a:ext cx="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19800" y="3887640"/>
              <a:ext cx="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16760" y="40262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31160" y="40262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81760" y="402624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43680" y="402624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05240" y="402624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86680" y="3909960"/>
              <a:ext cx="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52360" y="3895560"/>
              <a:ext cx="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8960" y="402624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71040" y="40262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354560" y="1100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33440" y="843120"/>
            <a:ext cx="706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画数轴，在数轴上表示下列各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46280" y="197316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70760" y="38908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66"/>
                </a:solidFill>
                <a:latin typeface="Times New Roman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23840" y="388944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66"/>
                </a:solidFill>
                <a:latin typeface="Times New Roman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22680" y="39099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66"/>
                </a:solidFill>
                <a:latin typeface="Times New Roman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05680" y="38955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66"/>
                </a:solidFill>
                <a:latin typeface="Times New Roman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059600" y="1389240"/>
            <a:ext cx="1407960" cy="1447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91720" y="3368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5640" y="341964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29360" y="3403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88680" y="33368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6240" y="390672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66"/>
                </a:solidFill>
                <a:latin typeface="Times New Roman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08840" y="3403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42880" y="3728880"/>
            <a:ext cx="8147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４与－４分别在原点的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      　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        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它们到原点的距离为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　　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数轴上与原点距离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点有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个，这些点表示的数是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         　　　　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7600" y="771480"/>
            <a:ext cx="72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观察所画的数轴及表示的点，回答下列问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79400" y="3728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右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97080" y="3728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左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3240" y="4373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79320" y="2095560"/>
            <a:ext cx="8153280" cy="1248480"/>
            <a:chOff x="679320" y="2095560"/>
            <a:chExt cx="8153280" cy="1248480"/>
          </a:xfrm>
        </p:grpSpPr>
        <p:grpSp>
          <p:nvGrpSpPr>
            <p:cNvPr id="102" name=""/>
            <p:cNvGrpSpPr/>
            <p:nvPr/>
          </p:nvGrpSpPr>
          <p:grpSpPr>
            <a:xfrm>
              <a:off x="679320" y="2624040"/>
              <a:ext cx="8153280" cy="720000"/>
              <a:chOff x="679320" y="2624040"/>
              <a:chExt cx="8153280" cy="720000"/>
            </a:xfrm>
          </p:grpSpPr>
          <p:sp>
            <p:nvSpPr>
              <p:cNvPr id="103" name=""/>
              <p:cNvSpPr/>
              <p:nvPr/>
            </p:nvSpPr>
            <p:spPr>
              <a:xfrm>
                <a:off x="679320" y="2779560"/>
                <a:ext cx="79246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04000" y="2779560"/>
                <a:ext cx="228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641840" y="2624040"/>
                <a:ext cx="0" cy="15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426200" y="2762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338800" y="2762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803400" y="2624040"/>
                <a:ext cx="0" cy="15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89080" y="2624040"/>
                <a:ext cx="0" cy="15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127240" y="2624040"/>
                <a:ext cx="0" cy="15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85040" y="2624040"/>
                <a:ext cx="0" cy="15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470640" y="2624040"/>
                <a:ext cx="0" cy="15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56240" y="2624040"/>
                <a:ext cx="0" cy="15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53200" y="2762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67600" y="2762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418200" y="2762640"/>
                <a:ext cx="545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-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580120" y="2762640"/>
                <a:ext cx="545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-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41680" y="2762640"/>
                <a:ext cx="545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-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223120" y="2646360"/>
                <a:ext cx="0" cy="13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288800" y="2631960"/>
                <a:ext cx="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905400" y="2762640"/>
                <a:ext cx="545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-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007480" y="2762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8107200" y="262728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66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60640" y="262584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66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59120" y="264636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66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42120" y="263196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66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3320" y="212724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92080" y="215568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65800" y="2139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53120" y="2095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22680" y="264312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66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45280" y="21398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948360" y="490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68840" y="549108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和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84280" y="1895400"/>
            <a:ext cx="79246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地，设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个正数，数轴上与原点的距离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点有两个，它们分别在原点的左右，表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们说这两点关于原点对称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1360" y="5033880"/>
            <a:ext cx="1066680" cy="765360"/>
          </a:xfrm>
          <a:prstGeom prst="rightArrow">
            <a:avLst>
              <a:gd name="adj1" fmla="val 54444"/>
              <a:gd name="adj2" fmla="val 48521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78040" y="50976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注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：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到原点的距离相等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244680" y="625320"/>
            <a:ext cx="2770200" cy="947520"/>
            <a:chOff x="3244680" y="625320"/>
            <a:chExt cx="2770200" cy="947520"/>
          </a:xfrm>
        </p:grpSpPr>
        <p:sp>
          <p:nvSpPr>
            <p:cNvPr id="139" name=""/>
            <p:cNvSpPr txBox="1"/>
            <p:nvPr/>
          </p:nvSpPr>
          <p:spPr>
            <a:xfrm>
              <a:off x="3244680" y="84924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5108400" y="62532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95280" y="7286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观察下面两个数，有什么异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0560" y="3519360"/>
            <a:ext cx="235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＋</a:t>
            </a: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10.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22840" y="3519360"/>
            <a:ext cx="235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10.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11320" y="3581280"/>
            <a:ext cx="1471680" cy="1020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41920" y="3597120"/>
            <a:ext cx="1471680" cy="1020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58680" y="3597120"/>
            <a:ext cx="1005120" cy="10051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73800" y="3581280"/>
            <a:ext cx="1004760" cy="10051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424160" y="1963800"/>
            <a:ext cx="4549680" cy="1617480"/>
            <a:chOff x="1424160" y="1963800"/>
            <a:chExt cx="4549680" cy="1617480"/>
          </a:xfrm>
        </p:grpSpPr>
        <p:sp>
          <p:nvSpPr>
            <p:cNvPr id="149" name=""/>
            <p:cNvSpPr/>
            <p:nvPr/>
          </p:nvSpPr>
          <p:spPr>
            <a:xfrm>
              <a:off x="1424160" y="1965240"/>
              <a:ext cx="45496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24160" y="1965240"/>
              <a:ext cx="0" cy="16160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73840" y="1963800"/>
              <a:ext cx="0" cy="15541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905200" y="4618080"/>
            <a:ext cx="4549680" cy="1236600"/>
            <a:chOff x="2905200" y="4618080"/>
            <a:chExt cx="4549680" cy="1236600"/>
          </a:xfrm>
        </p:grpSpPr>
        <p:sp>
          <p:nvSpPr>
            <p:cNvPr id="153" name=""/>
            <p:cNvSpPr/>
            <p:nvPr/>
          </p:nvSpPr>
          <p:spPr>
            <a:xfrm>
              <a:off x="2905200" y="5854680"/>
              <a:ext cx="45496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06640" y="4618080"/>
              <a:ext cx="0" cy="12366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54880" y="4618080"/>
              <a:ext cx="0" cy="12366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051720" y="1965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符号不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25040" y="5213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数字相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962760" y="1565280"/>
            <a:ext cx="1082520" cy="12985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9:31:31Z</dcterms:created>
  <dc:creator/>
  <dc:description/>
  <dc:language>en-US</dc:language>
  <cp:lastModifiedBy>微软用户</cp:lastModifiedBy>
  <dcterms:modified xsi:type="dcterms:W3CDTF">2014-06-30T00:55:16Z</dcterms:modified>
  <cp:revision>34</cp:revision>
  <dc:subject/>
  <dc:title>1.2.3 相反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110000000000010250600207f7000400038000</vt:lpwstr>
  </property>
</Properties>
</file>